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DD36-808A-425F-9E37-F6F243E3B0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F199-AC6B-4324-B4A9-DD8D8BBC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9750-B1CA-4A28-A105-9DFE13B6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265EA-09FF-4910-AEC8-71B7F93B1D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27E0-53C8-44EC-A559-09F8C605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EE89-0AEF-478F-86E7-95FF9046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546B5-340A-4DD4-8311-7C733382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25D3-9BD8-4BF4-8AC9-D231732A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5783-124F-4991-AC4D-DB1C6622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1662-1820-4CA6-A705-5E6825A3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05CC-2971-4E09-8907-F45B136B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29813-DD50-408C-9A15-AF71D86D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53A9-AD82-49BA-805E-60F12559D1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作业治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任意多边形 49"/>
          <p:cNvSpPr/>
          <p:nvPr/>
        </p:nvSpPr>
        <p:spPr>
          <a:xfrm>
            <a:off x="1908000" y="1557360"/>
            <a:ext cx="719280" cy="61272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2771640" y="1628640"/>
            <a:ext cx="3805200" cy="48600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任意多边形 50"/>
          <p:cNvSpPr/>
          <p:nvPr/>
        </p:nvSpPr>
        <p:spPr>
          <a:xfrm>
            <a:off x="1908000" y="2278080"/>
            <a:ext cx="719280" cy="61272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71640" y="2349360"/>
            <a:ext cx="3805200" cy="486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治疗性作业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任意多边形 51"/>
          <p:cNvSpPr/>
          <p:nvPr/>
        </p:nvSpPr>
        <p:spPr>
          <a:xfrm>
            <a:off x="1908000" y="2925720"/>
            <a:ext cx="790920" cy="68580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2844720" y="3070080"/>
            <a:ext cx="3803760" cy="48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与知觉动能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任意多边形 52"/>
          <p:cNvSpPr/>
          <p:nvPr/>
        </p:nvSpPr>
        <p:spPr>
          <a:xfrm>
            <a:off x="1908000" y="3645000"/>
            <a:ext cx="719280" cy="68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29"/>
          <p:cNvSpPr/>
          <p:nvPr/>
        </p:nvSpPr>
        <p:spPr>
          <a:xfrm>
            <a:off x="2771640" y="3718080"/>
            <a:ext cx="3805200" cy="48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觉统合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322680" y="333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二、作业治疗常用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任意多边形 52"/>
          <p:cNvSpPr/>
          <p:nvPr/>
        </p:nvSpPr>
        <p:spPr>
          <a:xfrm>
            <a:off x="1835280" y="4365720"/>
            <a:ext cx="75852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2771640" y="451008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辅助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任意多边形 52"/>
          <p:cNvSpPr/>
          <p:nvPr/>
        </p:nvSpPr>
        <p:spPr>
          <a:xfrm>
            <a:off x="1835280" y="5157720"/>
            <a:ext cx="758520" cy="75564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2771640" y="5229360"/>
            <a:ext cx="3805200" cy="48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环境改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任意多边形 52"/>
          <p:cNvSpPr/>
          <p:nvPr/>
        </p:nvSpPr>
        <p:spPr>
          <a:xfrm>
            <a:off x="1908000" y="5950080"/>
            <a:ext cx="758880" cy="75564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29"/>
          <p:cNvSpPr/>
          <p:nvPr/>
        </p:nvSpPr>
        <p:spPr>
          <a:xfrm>
            <a:off x="2916360" y="5950080"/>
            <a:ext cx="3805200" cy="485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职业咨询和职业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6360" y="148572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运动与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上移动训练：床上翻身、（单、双）桥式运动、左右移动、坐位平衡、床上起坐、上下床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内运动：步行运动、上下楼梯训练、助行器、轮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外运动：让患者了解室外环境。如观察路面、斜坡、台阶及障碍物；识别路标、指示牌、安全标志；训练自我保护的意识和方法（如安全跌倒与爬起的技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531480" y="40464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2000" y="141264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穿脱衣服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患者穿脱衣、裤、鞋、袜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进食用餐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使用各种餐具，如持匙、用勺、用筷、端碗、送食物进口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个人卫生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训练梳洗、剃须、剪指甲、整容、化妆品的使用；再训练用厕、二便控制及便后处理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家务劳动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非常丰富，包括做饭、洗菜、切菜、烹调、洗涮餐具、炊具使用、洗衣、熨烫衣物、铺床、清洁卫生、购物、家庭经济管理、照料小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12720" y="2133360"/>
            <a:ext cx="8143920" cy="17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经过精心选择的、具有针对性的作业活动，其目的是维持和提高患者的功能、预防功能障碍或残疾的加重、提高患者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疼痛和缓解症状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肌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身体耐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2360" y="1486080"/>
            <a:ext cx="814392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手的灵活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平衡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协调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感觉恢复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精神和转移注意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镇静安定、减轻烦躁及过度兴奋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情绪、宣泄明显的过激情绪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独立感，建立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成就感、满足感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罪责感（精神状况）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认知、知觉功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提高职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劳动技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职业适应能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患者再就业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79640"/>
            <a:ext cx="4248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作业治疗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用作业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社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社会交往和人际关系的作业疗法：如园艺、棋类活动、牌类活动、音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重返社会的作业疗法：通过生产性活动、竞技性活动、游戏性活动等可促进患者适应社会环境，利于他们早日重返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注意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使注意力集中的作业活动，如删字练习、击鼓传球游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患者感兴趣的某些活动使其集中精力，如听故事、猜谜、看电视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有外界干扰的环境中完成某项活动，在有说话声、音乐声或与他人边交谈边进行活动，以提高集中注意的稳定性及分散注意的合理分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朗诵法：反复地朗诵需要记住的信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示法：用活动信息的第一个字母或首个词句来提醒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叙述法：将需要记住的信息融合到一个故事里，当患者表达故事情节时，记忆信息不断地被叙述出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印象法：在患者的大脑中产生一个影响帮助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建立常规的日常生活活动程序：定时吃饭、睡觉；相同的穿衣顺序；物品分类、规律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辅助法：标签、清单、写日记、填写表格记录活动安排、制订活动时间表、利用手表闹钟提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608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定向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问法：提出问题，让患者回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背诵法：教患者背诵具有时间概念的词句，将顺序倒着背或提问，以加强时间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带患者到不同地方参观，浏览中治疗师提示，之后，再多次身处其境，让患者指出所在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请患者家属、朋友与之交谈，让患者根据其相貌、衣着、声音来识别何人，与自己的血缘关系或社会关系、称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解决问题能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一项功能活动，与患者共同讨论，决定活动步骤和方法。其后让患者自己确定另一活动的计划，治疗师给予补充、纠正，得到患者同意后再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出一些难题，让患者分析、判断，提出解决问题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推理训练，如讲一段故事情节，让患者设想几种结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参与家庭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视觉失认：进行各种识别训练，如让物体失认者反复识别常用品、必需品 ；有面容失认者反复用家人、亲属、名人等的照片借助语言提示进行辨识；对颜色失认者用色卡进行命名和辨别颜色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触觉失认：用粗糙的物品沿患者的手指向指尖移动进行触觉刺激；用手掌握锥形体进行压力刺激；闭目用手感觉和分辨不同质地的材料，注意力集中在体会物品特征上，进行辨识训练；利用视觉或健手的感觉帮助患肢进行感知，重视对物品的形状、材料、温度等特质的体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听觉失认：闭上眼睛，听录音机中传出的动物叫声或其他响声，然后再画有动物的图片上指出声音由谁发出，如有误应及时给予指正，直到分清各种声源；在嘈杂的声响中给予特定的声音，让患者听后说出发声的次数，重复进行；进行按门铃、拨打电话、观看雷雨气象及看电视等功能活动，随时向患者提出问题，给予纠正和补充；指导患者利用其他感官进行代偿，如把门铃附加闪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单侧忽略的作业治疗：视觉搜索训练，以促进向忽略侧的视觉搜索，提高对忽略侧的注意为目的，是临床常用的训练方法；在日常生活中尽量给予忽略侧各种感觉刺激；提醒进食时勿忘忽略侧的食物，穿衣、修饰时使用姿势镜；把忽略侧的轮椅车闸加长并做上标记、忽略侧脚托涂上颜色或做标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CF91-7A24-4451-9ABA-D653ADE740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34136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回忆作业治疗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作业治疗的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日常生活活动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归纳认知与知觉功能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各种作业治疗技术进行作业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运动性失用的作业治疗：进行特定的作业活动钱先给肢体以本体感觉、触觉、运动觉刺激，如制动轮椅训练前可给肢体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运动性失用的作业治疗：意念运动性失用者往往能够较好地完成粗大的全身性活动，训练时不宜将活动分解。训练前先进行想象或观摩，即让患者在头脑中以流畅、精确和协调的运动模式想象，然后再进行尝试。在治疗前及治疗中给患肢以触觉、本体感觉和运动觉刺激，加强正常模式和运动计划的输出。对于动作笨拙和动作异常尽量不用语言来纠正，而应握住患者的手帮助完成，并随动作的改善逐渐减少辅助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性失用的作业治疗：故事图片排序练习；把活动分解为若干步骤练习，逐步串连起来完成一整套系列动作；让患者大声说出活动步骤，逐渐变为低声重复，直至默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结构性失用的作业治疗：复制几何图形，从简单的平面设计开始，逐步向复杂设计过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石板或粗糙地面上画图以增加本体感觉和肌肉运动知觉的输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积木复制结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火柴棍、木钉盘或集合拼图或图画拼图进行复制练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练习日常生活活动的有关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穿衣失用的作业治疗：教会患者对各类衣服的辨别，分清衣服的各个部位及它们与身体某个部位的相应关系；按照穿衣的方法和步骤每天进行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左右分辨障碍的作业治疗：佩戴标志物如戒指、手镯、手表，或在衣袖和鞋上贴彩色胶带帮助区别左右；反复使用包含左右的口令或进行与左右有关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躯体失认的作业治疗：强化对身体各部分及其相互间关系的认识，可以练习人体拼图，按指令做动作，或呼出指定身体部位名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手指失认的作业治疗：按指令辨认手指图案、患者本人或治疗师的手指，进行手指辨认训练；进行与手指功能相关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，如使用勺子进食、更衣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图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背景分辨困难的作业治疗：将三种不同的物品放在患者面前，要求患者通过视觉进行分辨，随着功能改善逐渐增加物品的数量及难度；在装有混杂物体的容器中寻找熟悉的物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定位障碍的作业治疗：空间定位作业；触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动觉输入作业；反复练习跨越中线的作业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关系障碍的作业治疗：进行自身空间定向训练，按指示进行自身定位；进行物体间定向训练，复制不同的图形，从简单到复杂，从平面图到立体图。或选择日常熟悉的人物、动物或物品的图形进行拼图练习；常用物品摆放在相对固定的位置；放置重要物品的抽屉、柜橱等贴上标记以便于寻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任意多边形 49"/>
          <p:cNvSpPr/>
          <p:nvPr/>
        </p:nvSpPr>
        <p:spPr>
          <a:xfrm>
            <a:off x="2195640" y="1989000"/>
            <a:ext cx="758520" cy="75564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987640" y="2060640"/>
            <a:ext cx="3805200" cy="48564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任意多边形 50"/>
          <p:cNvSpPr/>
          <p:nvPr/>
        </p:nvSpPr>
        <p:spPr>
          <a:xfrm>
            <a:off x="2124000" y="2781360"/>
            <a:ext cx="758880" cy="75708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2987640" y="2854440"/>
            <a:ext cx="3805200" cy="48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任意多边形 51"/>
          <p:cNvSpPr/>
          <p:nvPr/>
        </p:nvSpPr>
        <p:spPr>
          <a:xfrm>
            <a:off x="2124000" y="3573360"/>
            <a:ext cx="758880" cy="75744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2987640" y="3645000"/>
            <a:ext cx="3805200" cy="48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任意多边形 52"/>
          <p:cNvSpPr/>
          <p:nvPr/>
        </p:nvSpPr>
        <p:spPr>
          <a:xfrm>
            <a:off x="2124000" y="4365720"/>
            <a:ext cx="75888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9"/>
          <p:cNvSpPr/>
          <p:nvPr/>
        </p:nvSpPr>
        <p:spPr>
          <a:xfrm>
            <a:off x="2987640" y="436572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227640" y="3333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任意多边形 52"/>
          <p:cNvSpPr/>
          <p:nvPr/>
        </p:nvSpPr>
        <p:spPr>
          <a:xfrm>
            <a:off x="2124000" y="5229360"/>
            <a:ext cx="758880" cy="75564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矩形 29"/>
          <p:cNvSpPr/>
          <p:nvPr/>
        </p:nvSpPr>
        <p:spPr>
          <a:xfrm>
            <a:off x="3132000" y="5157720"/>
            <a:ext cx="3805200" cy="48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地形定向障碍的作业治疗：反复练习从一个指定地点到另一个指定地点，从简短路线逐渐过渡到曲折复杂的路线；增设路标，可用标记物标出路线，掌握后逐渐减少标记，最终不再依赖提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距离与深度辨认障碍的作业治疗：反复练习缓慢上下台阶；行走时设置不同高度的路障来体会高、低的感觉；练习把脚放在画在地板的点上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感觉统合训练指基于儿童的神经需要，引导对感觉刺激做出适应性反应，其目的是促进大脑发育成熟，使大脑能有效地处理来自环境与身体的感觉信息，继而作出与环境需要相适应的反应，最终帮助儿童提高专注力、组织能力、学习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旋转：让儿童俯卧在滑板上，双手交叉控制方向带动滑板和身体进行原地旋转，左右交替（旋转时手不过中线，避免引起头晕）。旋转的次数逐渐增加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以上。可增强前庭觉的适应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过隧道：用积木围成一条曲折变化的通道，让儿童俯卧在滑板上，顺着通道的方向，逐步前进。可在通道的一端设置目标物（彩色气球、毛绒玩具等），规定其拿取到一定数目后即给予奖励，激发儿童兴趣，增强本体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2000" y="15573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火车厢接龙：用积木围成一条曲折变化的通道，让多名儿童俯卧在滑板上，排成长龙，后面的儿童双手抓握前一儿童的双腿，由第一个儿童带领，顺着通道的方向前进。适用于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人推球比赛：让儿童俯卧在滑板上，两人一组，进行水平推球、接球的活动。增强眼球控制能力，改善视听觉的统合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2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滑梯取物：将滑板放在滑梯顶端的平台上，让儿童俯卧在滑板上，头、手在前，脚在后，由指导者协助轻轻推动滑板，使滑板由滑梯上自然滑下，要求儿童在下滑的过程中抓取目标物。可提高儿童的有意注意力，锻炼眼球的注视能力，辨距能力和动作企划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逆行上滑梯：在滑梯的上端固定一条绳子，让儿童俯卧在滑板上，双手抓握绳子，交替向前移动，直至滑梯的顶端。可增强儿童空间认知和肌肉协同收缩能力，强化平衡及自我保护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1714680"/>
            <a:ext cx="8929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大笼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大笼球：让儿童俯卧在大笼球上，指导者握其双足，将两腿平举，并做轻微的前后推拉和左右转动。可以训练儿童的前庭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大笼球压滚游戏：让儿童俯卧或仰躺在地板上，指导者将笼球置于其身体上，慢慢地将球前后左右滚动，或轻轻挤压。可提供丰富的触觉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入球池：让儿童以自己的方式进入球池，可轻轻跨入或用力跳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藏身其中：让儿童慢慢坐下或躺下，将身体全部藏入球池中，接受球的挤压，加强对全身触觉系统的刺激和锻炼，以改善其触觉防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中运动：①在球池中转动手、脚，划动四肢或翻转身体，摆动头部、颈部，在此状态下，调整身体的重力感信息；②站在球池中，做踏步运动或跳跃运动，并设置一目标地，让儿童以某种规定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站着走、蹲着走、爬行、单脚跳、双脚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沿某条规定的路径达到目标地；③在球池中藏一种或几种不同质地或大小的物体，让儿童寻找。④在球池中作飞机起飞、火车开动、太空人漫步、抛接球等游戏，以强化动作计划能力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综合游戏：在球池旁边放置一高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的台子，上方悬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球，让儿童登上高台，由高台上跳下，先用手击打吊球，再跳入球池中。可强化前庭功能、身体协调能力及脑干部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羊角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让儿童坐在球上，双手紧握手把，身体前屈，用力下压，借助球的弹力向前跳动。可促进姿势和双侧的统合，提高动作企划能力。跳动时，指导者可在前方设置彩色旋转的目标物，嘱其追视。增强眼球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4D13-C535-4CA0-B190-6F3149BD53E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业治疗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ccupational therap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指应用有目的的、精心挑选的作业活动，对由于躯体上、精神上、发育上有功能障碍或残疾，以致不同程度地丧失生活自理和劳动能力的患者，进行评价、治疗和训练的过程，是一种康复治疗方法。其目的是使患者最大限度地恢复或提高独立生活和劳动能力，更好地回归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时光隧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让儿童头在前脚在后，匍匐进入并通过隧道，再令儿童采用脚在前头在后的方式通过隧道。指导者应提醒儿童手脚和身体的协调运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隧道内放置许多物品，要求儿童通过隧道并将目标物取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当儿童通过隧道的过程中，轻轻转动隧道，增加难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增强手、肘、肩、膝等部位的固有感觉输入，加强前庭体系的刺激和调整。尤其适用于本体感不佳，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00040" y="171468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袋鼠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儿童站在袋中，双手提起袋边，双脚同时向前跳，逐渐再加大跳跃的幅度，改变跳跃的方向。根据儿童的体能情况，每天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跳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距离。可强化前庭固有感觉，促进手足协调和本体感觉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6720" y="141300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平衡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一排，让儿童在平衡木上踏步前进。可让其外展双臂，或双手抱球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平行的两排，让儿童双脚各踏一条平衡木前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高低不等的平衡木交替排列成一条曲折的通道，中间可留有一定距离的空当，让儿童徒手或抱球通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强化双侧肢体的平衡反应和视觉运动协调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6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自助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食自助具：轻便餐具、曲柄调羹、吸附垫、盘圈、弹簧木筷、双耳杯、持杯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穿衣自助具：纽扣器、穿衣钩、穿袜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人卫生自助具：长柄梳、长柄刷、牙膏固定器、台式指甲钳、淋浴凳、浴缸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厕自助具：马桶增高垫、马桶座椅、便后擦拭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自助具：开瓶器、改良刀柄、砧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书写阅读自助具：握笔器、翻页器、书架、轮椅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拐杖的选配及使用训练：手拐、腋拐、肘拐、前臂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轮椅及助行架的选配及使用训练：各种参数的选择、轮椅转移训练、轮椅技巧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特殊功能辅助器具 助听器、语言训练器、导盲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假肢与矫形器的选配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根据患者的具体情况进行选配，并提出有关意见或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对穿戴机械假手者应训练其动作的协调性。对穿戴下肢假肢者应先进行负重与平衡训练，再进行平地行走和上下台阶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环境影响人的行为，同时，人的行为也改变着环境。针对不同患者的情况，应对其生活及工作环境进行评估，找出问题，提出改进意见。具体内容详见本章第六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环境改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原有的技能、专长和兴趣、目前的身心功能状况及未来工作条件，提出有关就业的意见和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针对未来工作的需要，进行相关技能、认知、心理方面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8726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职业咨询和职业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758C-39FD-4F03-A71B-83890FD7533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维持现有功能，最大限度发挥残存功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高日常生活活动的自理能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为患者设计及制作与日常生活活动有关的各种自助具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供职业前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强化患者的自信心、辅助心理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9EBD-3F69-4F3D-9796-00B10A71750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目标指向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对患者而言在某些水平有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在某些水平上要求当事人参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预防功能减退及维持或改善生活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要反映患者的生活课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与患者的兴趣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可变更或调节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基于作业治疗师的专业知识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特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5252-BC95-4FC4-8EFE-06AD3A7D3F3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作业治疗的内容和方法需与治疗目标相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的愿望和兴趣选择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患者能完成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0%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以上的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在考虑局部效果时要注意对全身功能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的选择需与患者所处的环境条件相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9544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CD7D-0E02-4653-8C54-F8D75BDBCAF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作业功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照作业技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38:30Z</dcterms:modified>
  <cp:revision>1</cp:revision>
  <dc:subject/>
  <dc:title>   第四章  康复治疗技术</dc:title>
</cp:coreProperties>
</file>